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A29BB9-B89F-42EF-BC0E-07A1725764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8160" cy="13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B0392C-4501-4F5E-8F8E-319225D62A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8160" cy="13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7D2F21-EAC8-47F1-AF9B-35F1CDD8EF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8160" cy="13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F204EB-EFF2-4468-BCD7-F1935FF917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8160" cy="13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8160" cy="13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8160" cy="13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8160" cy="13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90080"/>
            <a:ext cx="8228160" cy="608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102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8160" cy="13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8160" cy="13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C2791E-3952-450D-8F76-7CBAEFF1AE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8160" cy="13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8160" cy="13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8160" cy="13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8160" cy="13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8160" cy="13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8160" cy="13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007656-8001-4E25-8042-924D8ECA5E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8160" cy="13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38180F-B815-453D-8D16-0C1EB33AD6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8160" cy="13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B9455B-2F43-43E1-B936-A8DB51435B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190080"/>
            <a:ext cx="8228160" cy="608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102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D9CD34-A364-4121-AF15-16AB0E6667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8160" cy="13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162611-036A-4F25-AF8E-7DE41C9320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8160" cy="13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A37FB6-D5D5-4868-8622-D621964BE4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8160" cy="13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9BDAD1-C1ED-4A3B-8DCB-60B362DC57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8160" cy="13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343080" indent="-3430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343080" indent="-3430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343080" indent="-3430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343080" indent="-3430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343080" indent="-3430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457200" y="6095520"/>
            <a:ext cx="21319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14C411A-548B-4E8D-9F1C-0B5E5C7C50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7770960" cy="146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2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343080" indent="-3430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343080" indent="-3430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343080" indent="-3430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343080" indent="-3430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343080" indent="-3430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labs.ripe.net/content/lameness-analysis-measurement-and-estimation" TargetMode="External"/><Relationship Id="rId2" Type="http://schemas.openxmlformats.org/officeDocument/2006/relationships/hyperlink" Target="http://www.ripe.net/ripe/meetings/ripe-59/presentations/kerr-trees.pdf" TargetMode="External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www.isc.org/software/bind10/mascot-contest-webform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09480" y="1111320"/>
            <a:ext cx="7772400" cy="14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Life, DNS, and BIND 10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371600" y="3168360"/>
            <a:ext cx="640080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hane Ker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ternet Systems Consortium (ISC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34720"/>
            <a:ext cx="8229600" cy="12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Lameness Study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8436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ith cooperation from the RIPE NCC I did a study of lameness in reverse DNS: </a:t>
            </a:r>
            <a:r>
              <a:rPr b="0" lang="en-US" sz="1500" spc="-1" strike="noStrike" u="sng">
                <a:solidFill>
                  <a:srgbClr val="ccccff"/>
                </a:solidFill>
                <a:uFillTx/>
                <a:latin typeface="Verdana"/>
                <a:hlinkClick r:id="rId1"/>
              </a:rPr>
              <a:t>http://labs.ripe.net/content/lameness-analysis-measurement-and-estimation</a:t>
            </a:r>
            <a:br>
              <a:rPr sz="1500"/>
            </a:br>
            <a:r>
              <a:rPr b="0" lang="en-US" sz="1500" spc="-1" strike="noStrike" u="sng">
                <a:solidFill>
                  <a:srgbClr val="ccccff"/>
                </a:solidFill>
                <a:uFillTx/>
                <a:latin typeface="Verdana"/>
                <a:hlinkClick r:id="rId2"/>
              </a:rPr>
              <a:t>http://www.ripe.net/ripe/meetings/ripe-59/presentations/kerr-trees.pdf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68436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ummary: lameness in reverse causes very little user probl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436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ut... the DNS community still decided to spend resources fixing lamenes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34720"/>
            <a:ext cx="8229600" cy="12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BIND 10 and People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677160" indent="-3376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f we are doing something, we should ask 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WHY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77160" indent="-3376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answer should always be that it helps some person in some way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77160" indent="-3376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IND 10 is DNS software for people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7716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7716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77160" indent="0" algn="ctr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e'll have an example later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How to Have Great Ideas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57200" y="1644480"/>
            <a:ext cx="8229600" cy="443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 won't tell you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Yet. ;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dur="indefinite" fill="hold">
                      <p:stCondLst>
                        <p:cond delay="indefinite"/>
                      </p:stCondLst>
                      <p:childTnLst>
                        <p:par>
                          <p:cTn id="7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dur="indefinite" fill="hold">
                      <p:stCondLst>
                        <p:cond delay="indefinite"/>
                      </p:stCondLst>
                      <p:childTnLst>
                        <p:par>
                          <p:cTn id="8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Chaos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6520" cy="45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8436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 1991 I read a book called 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Chaos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. It was about Chaos theory. (I recommend it!!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436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 got a copy for my mother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673520" y="1855800"/>
            <a:ext cx="4016520" cy="4016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dur="indefinite" fill="hold">
                      <p:stCondLst>
                        <p:cond delay="indefinite"/>
                      </p:stCondLst>
                      <p:childTnLst>
                        <p:par>
                          <p:cTn id="8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dur="indefinite" fill="hold">
                      <p:stCondLst>
                        <p:cond delay="indefinite"/>
                      </p:stCondLst>
                      <p:childTnLst>
                        <p:par>
                          <p:cTn id="9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Chaos vs. My Mom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8436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y mom read the book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436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he could not believe that anyone could have such idea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436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ow do they think of these?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436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ut for the scientists, engineers, and mathematicians, each discovery was one small step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Two Quotes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652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677160" indent="-3376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f I have seen further it is by standing on the shoulders of Giants.” 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Isaac Newt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77160" indent="-3376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Good artists copy, great artists steal.” 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Picass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5943600" y="4114800"/>
            <a:ext cx="1955880" cy="25146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5486400" y="1241280"/>
            <a:ext cx="2444760" cy="264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dur="indefinite" fill="hold">
                      <p:stCondLst>
                        <p:cond delay="indefinite"/>
                      </p:stCondLst>
                      <p:childTnLst>
                        <p:par>
                          <p:cTn id="9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dur="indefinite" fill="hold">
                      <p:stCondLst>
                        <p:cond delay="indefinite"/>
                      </p:stCondLst>
                      <p:childTnLst>
                        <p:par>
                          <p:cTn id="10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How to Have Great Ideas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8436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view state-of-the-art practices and technology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436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e and improve industry standard methodologie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436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 other words..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5400" spc="-1" strike="noStrike">
                <a:solidFill>
                  <a:srgbClr val="000000"/>
                </a:solidFill>
                <a:latin typeface="Verdana"/>
              </a:rPr>
              <a:t>Steal them!!!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dur="indefinite" fill="hold">
                      <p:stCondLst>
                        <p:cond delay="indefinite"/>
                      </p:stCondLst>
                      <p:childTnLst>
                        <p:par>
                          <p:cTn id="1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dur="indefinite" fill="hold">
                      <p:stCondLst>
                        <p:cond delay="indefinite"/>
                      </p:stCondLst>
                      <p:childTnLst>
                        <p:par>
                          <p:cTn id="1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dur="indefinite" fill="hold">
                      <p:stCondLst>
                        <p:cond delay="indefinite"/>
                      </p:stCondLst>
                      <p:childTnLst>
                        <p:par>
                          <p:cTn id="1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urier 10 Pitch"/>
              </a:rPr>
              <a:t>#include &lt;bind10-std&gt;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Case Study: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Zone Loader Output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8436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 BIND 10 there is a tool called b10-loadzon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436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s tool takes a zone file and loads it into the 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data stor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(currently an SQLite3 database file)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436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etty simple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457200" y="235080"/>
            <a:ext cx="8229600" cy="12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Running b10-loadzo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57200" y="235080"/>
            <a:ext cx="8229600" cy="584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9720" bIns="0" anchor="ctr">
            <a:noAutofit/>
          </a:bodyPr>
          <a:p>
            <a:pPr>
              <a:lnSpc>
                <a:spcPct val="97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10 Pitch"/>
              </a:rPr>
              <a:t>$ b10-loadzone time-travellers.org.zon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urier 10 Pitch"/>
              </a:rPr>
              <a:t>$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2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ems to work fine... use dig to check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4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My Father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71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670320" indent="-33444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y dad was a soldier</a:t>
            </a:r>
            <a:r>
              <a:rPr b="0" lang="en-US" sz="3200" spc="-1" strike="noStrike" baseline="33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70320" indent="-33444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 the US ARMY, where..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70320" indent="-33444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re are 3 ways of doing things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70320" indent="0" algn="ctr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RIGHT way,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70320" indent="0" algn="ctr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WRONG way, an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70320" indent="0" algn="ctr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1" lang="en-US" sz="6000" spc="-1" strike="noStrike">
                <a:solidFill>
                  <a:srgbClr val="000000"/>
                </a:solidFill>
                <a:latin typeface="Courier New"/>
              </a:rPr>
              <a:t>ARMY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way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7032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67032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1. A veterinarian (animal doctor), but still a soldier!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fill="hold">
                      <p:stCondLst>
                        <p:cond delay="indefinite"/>
                      </p:stCondLst>
                      <p:childTnLst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dur="indefinite" fill="hold">
                      <p:stCondLst>
                        <p:cond delay="indefinite"/>
                      </p:stCondLst>
                      <p:childTnLst>
                        <p:par>
                          <p:cTn id="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dur="indefinite" fill="hold">
                      <p:stCondLst>
                        <p:cond delay="indefinite"/>
                      </p:stCondLst>
                      <p:childTnLst>
                        <p:par>
                          <p:cTn id="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dur="indefinite" fill="hold">
                      <p:stCondLst>
                        <p:cond delay="indefinite"/>
                      </p:stCondLst>
                      <p:childTnLst>
                        <p:par>
                          <p:cTn id="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fill="hold">
                      <p:stCondLst>
                        <p:cond delay="indefinite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457200" y="190440"/>
            <a:ext cx="8229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Running b10-loadzo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57200" y="235080"/>
            <a:ext cx="8229600" cy="584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9720" bIns="0" anchor="ctr">
            <a:noAutofit/>
          </a:bodyPr>
          <a:p>
            <a:pPr>
              <a:lnSpc>
                <a:spcPct val="97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10 Pitch"/>
              </a:rPr>
              <a:t>$ b10-loadzone nl.zo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2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hing happens. Is it working? Check “top”, look at database size, and so on..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34720"/>
            <a:ext cx="8229600" cy="12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What to do?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8436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d verbose mode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436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d updates as file is loading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436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4360" indent="0">
              <a:lnSpc>
                <a:spcPct val="97000"/>
              </a:lnSpc>
              <a:spcBef>
                <a:spcPts val="799"/>
              </a:spcBef>
              <a:buNone/>
              <a:tabLst>
                <a:tab algn="l" pos="0"/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684360" indent="0">
              <a:lnSpc>
                <a:spcPct val="97000"/>
              </a:lnSpc>
              <a:spcBef>
                <a:spcPts val="799"/>
              </a:spcBef>
              <a:buNone/>
              <a:tabLst>
                <a:tab algn="l" pos="0"/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10 Pitch"/>
              </a:rPr>
              <a:t>$ b10-loadzone example.db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10 Pitch"/>
              </a:rPr>
              <a:t>Using SQLite3 database file "/var/lib/bind10/test-sqlite.db"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10 Pitch"/>
              </a:rPr>
              <a:t>Zone name is "xn—fsqu00a.cn"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10 Pitch"/>
              </a:rPr>
              <a:t>5342 Resource Record(s) loaded in 2 second(s) (0.5% of file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34720"/>
            <a:ext cx="8229600" cy="12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Simple, right?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677160" indent="-3376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eed to check if going to T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77160" indent="-3376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eed to change the code to have points in loading to output thi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77160" indent="-3376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eed to guess how far we are in loading (based on file size and position in it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77160" indent="-3376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clude statements in zone files make this... tricky (thanks Likun for spotting this!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34720"/>
            <a:ext cx="8229600" cy="12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With BIND 10, </a:t>
            </a:r>
            <a:r>
              <a:rPr b="1" i="1" lang="en-US" sz="4000" spc="-1" strike="noStrike">
                <a:solidFill>
                  <a:srgbClr val="000000"/>
                </a:solidFill>
                <a:latin typeface="Verdana"/>
              </a:rPr>
              <a:t>Yes We Can!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8436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e have time to do it righ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436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e want to make it 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nice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34720"/>
            <a:ext cx="8229600" cy="12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What Did I Say?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8436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hat is Important in Life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436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ow to Have Great Idea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4360" indent="-34128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10 Pitch"/>
              </a:rPr>
              <a:t>#include &lt;bind10-std&gt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436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ase Study: Zone Loader Output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34720"/>
            <a:ext cx="8229600" cy="12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Call for Support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8436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ormally the last slide is asking for new sponsor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436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oday... I want a new MASCOT! </a:t>
            </a:r>
            <a:r>
              <a:rPr b="0" lang="en-US" sz="1800" spc="-1" strike="noStrike" u="sng">
                <a:solidFill>
                  <a:srgbClr val="ccccff"/>
                </a:solidFill>
                <a:uFillTx/>
                <a:latin typeface="Verdana"/>
                <a:hlinkClick r:id="rId1"/>
              </a:rPr>
              <a:t>http://www.isc.org/software/bind10/mascot-contest-webfor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34720"/>
            <a:ext cx="8229600" cy="12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Military Presentations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8436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AY WHAT YOU WILL SAY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436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AY I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436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AY WHAT YOU SAI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fill="hold">
                      <p:stCondLst>
                        <p:cond delay="indefinite"/>
                      </p:stCondLst>
                      <p:childTnLst>
                        <p:par>
                          <p:cTn id="3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fill="hold">
                      <p:stCondLst>
                        <p:cond delay="indefinite"/>
                      </p:stCondLst>
                      <p:childTnLst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dur="indefinite" fill="hold">
                      <p:stCondLst>
                        <p:cond delay="indefinite"/>
                      </p:stCondLst>
                      <p:childTnLst>
                        <p:par>
                          <p:cTn id="4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34720"/>
            <a:ext cx="8229600" cy="12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What Will I Say?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8436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hat is Important in Life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436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ow to Have Great Idea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4360" indent="-34128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10 Pitch"/>
              </a:rPr>
              <a:t>#include &lt;bind10-std&gt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436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ase Study: Zone Loader Output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What is Important in Life?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44480"/>
            <a:ext cx="8229600" cy="443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 won't tell you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Yet. ;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dur="indefinite" fill="hold">
                      <p:stCondLst>
                        <p:cond delay="indefinite"/>
                      </p:stCondLst>
                      <p:childTnLst>
                        <p:par>
                          <p:cTn id="4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dur="indefinite" fill="hold">
                      <p:stCondLst>
                        <p:cond delay="indefinite"/>
                      </p:stCondLst>
                      <p:childTnLst>
                        <p:par>
                          <p:cTn id="5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Shane's Big Secret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 am not a DNS Person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dur="indefinite" fill="hold">
                      <p:stCondLst>
                        <p:cond delay="indefinite"/>
                      </p:stCondLst>
                      <p:childTnLst>
                        <p:par>
                          <p:cTn id="5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Where I Came From...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8436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udied Computer Scie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436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orked for a telephony compan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436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orked for ARIN... doing back-end database stuff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436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orked for RIPE NCC... doing WHOI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436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orked for ISC... doing DHCPv6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436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orked for Afilias... doing DNS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34720"/>
            <a:ext cx="8229600" cy="12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What </a:t>
            </a:r>
            <a:r>
              <a:rPr b="1" i="1" lang="en-US" sz="4000" spc="-1" strike="noStrike">
                <a:solidFill>
                  <a:srgbClr val="000000"/>
                </a:solidFill>
                <a:latin typeface="Verdana"/>
              </a:rPr>
              <a:t>is</a:t>
            </a: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 Important in Life?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84360" indent="0" algn="ctr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t's not DN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4360" indent="0" algn="ctr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Verdana"/>
              </a:rPr>
              <a:t>It's people!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68436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4360" indent="0" algn="ctr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 technological fields – and especially in the DNS community – we often forget that the technology is not important, except when it can help people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dur="indefinite" fill="hold">
                      <p:stCondLst>
                        <p:cond delay="indefinite"/>
                      </p:stCondLst>
                      <p:childTnLst>
                        <p:par>
                          <p:cTn id="6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dur="indefinite" fill="hold">
                      <p:stCondLst>
                        <p:cond delay="indefinite"/>
                      </p:stCondLst>
                      <p:childTnLst>
                        <p:par>
                          <p:cTn id="6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dur="indefinite" fill="hold">
                      <p:stCondLst>
                        <p:cond delay="indefinite"/>
                      </p:stCondLst>
                      <p:childTnLst>
                        <p:par>
                          <p:cTn id="7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34720"/>
            <a:ext cx="8229600" cy="12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Example: Lameness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8436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ameness is when an NS for a domain does not answer authoritatively for that domain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436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s causes problem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436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gistries 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hat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lamenes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2T04:01:25Z</dcterms:created>
  <dc:creator>Shane Kerr</dc:creator>
  <dc:description/>
  <dc:language>en-US</dc:language>
  <cp:lastModifiedBy>Shane Kerr</cp:lastModifiedBy>
  <dcterms:modified xsi:type="dcterms:W3CDTF">2010-05-12T06:59:27Z</dcterms:modified>
  <cp:revision>47</cp:revision>
  <dc:subject/>
  <dc:title>isc_template_09jul_openoffc</dc:title>
</cp:coreProperties>
</file>