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5B6D-50C7-4778-9856-EDEA20DF6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2808-E340-4863-B772-7DC058071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997A-E092-45A0-8B41-067FC4A9A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BFA2-DEEF-4565-A4D3-A9E180A5A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90F8-62F2-4138-9948-DDA38B23F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279A-C660-4258-930F-82E8C866F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BE64-E938-4654-9FA4-352A72723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28FD-E451-4A18-9EC8-FE408E470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EF42-A22D-4183-8E9F-7CF50ED4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6037-8B19-404C-91D9-D5892D6A5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986F-F93F-41ED-8A3A-6519A235C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745D-DDAA-4187-B1C5-67C8A76E1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09552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E3D1E-304F-43E3-ABDF-7DBD68518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isc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1132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tributed Project Management in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1683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ne Ker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vision Contro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version pick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Better CV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llent Trac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ized: one reposi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xt step: distributed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curial or g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solated branch, then me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 always need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for branches, releases,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velopment Team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C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so non-ISC (JPRS, CNNI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e in futur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3419640"/>
            <a:ext cx="73152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munication Challeng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munication Challeng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pan: UTC+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herlands: UTC+1 (+2 in summ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ifornia: UTC-8 (-7 in summ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S → SFO: at least 11 hours fly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sed to ope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ny, country, language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munication Solution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mail for proposals &amp; dec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bber for chat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c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ekly conference ca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:00 in Beijing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da on e-mail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utes on Wi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rterly face-to-face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ypes of Manage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 restaurants, support, operations,  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 with a beginning and an 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 construction, software development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10 is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10 Support will be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ject Lifecycl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, many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y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companies use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does not ;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models are similar, rough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te (describe, identify skills &amp; resources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company commitm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(tasks, ordering, estima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te (do the work, track pla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de (verify work, champag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oftware Lifecycle Model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how software is bui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amentally project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, many,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an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ty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companies use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C does not :(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ng history, going back to 1950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t practices from other indus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many 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 Y1 Lifecycle Mode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otstrapping 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terfall mod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73520" y="1855800"/>
            <a:ext cx="4016520" cy="40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aterfall Problem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ic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ays “cascade”: not enough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certain requirements/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mi-uniqu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not available in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had many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claime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alk is about 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was a program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managerial education o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software engineering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ve computers, hate busine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am a project man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ll no managerial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experience, mostly mistake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: Y2 Lifecycle Model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t someth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g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r timelines, more inte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 insure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ru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05000" y="3429000"/>
            <a:ext cx="46674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ifecycle Model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rum 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experience with scru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acklog of work to build f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custo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ily meetings impract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ilar issues with all agile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ed around small te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 constant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oving to Agile Develop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exper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s of stuff online... try i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backlog of work to build fro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back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 in Wiki, now in tickets, later...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custome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ly doing without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ily meetings imprac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bber “bind10-daily-statu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urrent Challeng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nimizing conference call 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tter integrating ISC/non-ISC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sing development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version to Mercurial/g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cking backlog &amp; other ti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ekly/daily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fun for develop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razy Idea Section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gh-te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, software, mobile ph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w-te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rming, road-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mbly lines, check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 systems, open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l Systems Need Feedback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s need driv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cuments need edi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needs te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the process does not have a step for correction, the first step is to add that to the proces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teration and Feedback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03360" y="1600200"/>
            <a:ext cx="19224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7316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ing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rtifac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akes this eas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ing can be event or time-ba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-level work also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teration &amp; Feedbac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Exampl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 have 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t review, next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iodic assess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t-mortem at each rel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ulture of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is tool the best? (Subvers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we doing this well? (Meeting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teration/Feedback and Projec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s st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use of process is effic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jects 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ons can apply to next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oal is the G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mproving the process is nice, but only when it helps improve the output of the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arning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52574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could happen to you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974960"/>
            <a:ext cx="4572000" cy="305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97440" y="1600200"/>
            <a:ext cx="2432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scot Contest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isc.or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ag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estions or comm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57200"/>
            <a:ext cx="1828800" cy="1828800"/>
          </a:xfrm>
          <a:custGeom>
            <a:avLst/>
            <a:gdLst>
              <a:gd name="textAreaLeft" fmla="*/ 169200 w 1828800"/>
              <a:gd name="textAreaRight" fmla="*/ 1659600 w 1828800"/>
              <a:gd name="textAreaTop" fmla="*/ 169200 h 1828800"/>
              <a:gd name="textAreaBottom" fmla="*/ 1659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  <a:moveTo>
                  <a:pt x="2000" y="2000"/>
                </a:moveTo>
                <a:lnTo>
                  <a:pt x="19600" y="2000"/>
                </a:lnTo>
                <a:lnTo>
                  <a:pt x="19600" y="19600"/>
                </a:lnTo>
                <a:lnTo>
                  <a:pt x="2000" y="196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999999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uture of DNS softwa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ccessor to BIND 9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% of DNS servers worldwid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 years 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Source (BSD licens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year project to imp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nsored work, dedicated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457200"/>
            <a:ext cx="1828800" cy="1828800"/>
          </a:xfrm>
          <a:custGeom>
            <a:avLst/>
            <a:gdLst>
              <a:gd name="textAreaLeft" fmla="*/ 169200 w 1828800"/>
              <a:gd name="textAreaRight" fmla="*/ 1659600 w 1828800"/>
              <a:gd name="textAreaTop" fmla="*/ 169200 h 1828800"/>
              <a:gd name="textAreaBottom" fmla="*/ 1659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  <a:moveTo>
                  <a:pt x="2000" y="2000"/>
                </a:moveTo>
                <a:lnTo>
                  <a:pt x="19600" y="2000"/>
                </a:lnTo>
                <a:lnTo>
                  <a:pt x="19600" y="19600"/>
                </a:lnTo>
                <a:lnTo>
                  <a:pt x="2000" y="1960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999999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22120"/>
            <a:ext cx="8229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C Style of Wor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 long ago, Paul Vixie noticed a smart guy named Mark Andrews doing a bunch of work on BIND. Mark Andrews lives in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l: “Want to work for me?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: “No worries, mate! But I'd hate to leave the outback...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l: “Okay, work from there, we'll use the Internet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43800" y="128520"/>
            <a:ext cx="13716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C Style of Wor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actical Detail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-mail is critic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, 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calls, conference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ab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al IM, chat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e to face meet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head office, IETF/other con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SC Style of Work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ew for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ale of co-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taff on on pro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-running 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-existence with other proje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ND 9, ISC DHCP at sam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engineering eff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develop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just open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69160" indent="-28116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ty interactions k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 Tool Tip: Trac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c is a web-based tool to help software develop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66220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blems with Trac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ual Wiki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ropy: tends to dis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standards for mark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cket system not 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48428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al support for work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great for NON-develop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version... see next sli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2:52:57Z</dcterms:created>
  <dc:creator>Shane Kerr</dc:creator>
  <dc:description/>
  <dc:language>en-US</dc:language>
  <cp:lastModifiedBy>Shane Kerr</cp:lastModifiedBy>
  <dcterms:modified xsi:type="dcterms:W3CDTF">2010-05-18T06:52:24Z</dcterms:modified>
  <cp:revision>80</cp:revision>
  <dc:subject/>
  <dc:title>isc_template_09jul_openoffc</dc:title>
</cp:coreProperties>
</file>