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D2A7-DA52-4AFC-ADD3-DA75E53B1D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5E4E-1689-4A04-A5A4-18A2572FA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D395-63B6-4B4F-8819-FBE068CE1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0076-1F80-453A-95F0-29A52AC13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A684-9B3E-471C-9994-35E115248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4F67-6158-46CC-A82C-D08225715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DD15-2185-4073-AEF5-995431CD4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3E52-9708-4557-A5E7-E91FBEAE6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24E2-1447-4523-995E-5732EB8FB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946D-2B69-4E74-8595-FE9D801CB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24D-07A4-4AAA-9D61-53868165A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A4D0-0CE7-44CE-8E03-EC876DB46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09552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907DBA-F195-472C-9FC1-DE4A75E33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isc.org/bind10/sponsor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1132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in 10 Minut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168360"/>
            <a:ext cx="73152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l for Suppor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C is a non-profit, open source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needs your suppor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contributions – code, testing, requirements – wel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ponsors very welco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BIND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 server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by 80% of DNS ser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DNS is importan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n BIND is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tivation for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D 9 is almost 10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mput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twork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NS software “marketplace” evol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new architecture for the next 10+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Projec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sought funders for BIND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ous sponsors provided initial fun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isc.org/bind10/spon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sponsors form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ND 10 Steering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kick-off date 2009-04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Rough) BIND 10 Time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: Authoritative-onl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2: Recursive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3: Production-qualit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4: Drop-in BIND 9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5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development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bind10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bind10-dev@lists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Subversion reposi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team coding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ISC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JPRS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CNNIC staf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Technologi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chitecture &amp; Desig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defined APIs and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runtime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lience to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ust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Process Mode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2360" y="1592280"/>
            <a:ext cx="865836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otype authoritative server d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eases every 4-6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server in 9 month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05:33:13Z</dcterms:created>
  <dc:creator>Shane Kerr</dc:creator>
  <dc:description/>
  <dc:language>en-US</dc:language>
  <cp:lastModifiedBy>Shane Kerr</cp:lastModifiedBy>
  <dcterms:modified xsi:type="dcterms:W3CDTF">2010-06-21T05:59:13Z</dcterms:modified>
  <cp:revision>25</cp:revision>
  <dc:subject/>
  <dc:title>isc_template_09jul_openoffc</dc:title>
</cp:coreProperties>
</file>