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7202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0BE7-C957-41AF-B23C-9BBD83DC0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640" y="374400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F503-1E08-41AA-83BB-34590D781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00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86E1-4279-4A94-976A-741EAD57C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0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04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56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0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04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A040D-FA62-4E04-BDCE-03F378BFF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85640" y="179280"/>
            <a:ext cx="874728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7428F-B767-499F-9E6B-867E27F44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6800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640" y="374400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6800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430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00440" y="151092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56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430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00440" y="3744000"/>
            <a:ext cx="2816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C089-0A3F-4456-B10F-0EC0F72FC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A26E-DBB0-4C15-A658-79F2FE9E6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25AC5-CB11-49F8-94D9-CE76BCDE4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5640" y="179280"/>
            <a:ext cx="874728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3E38-6528-4E20-8D84-03D8D0C916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ACD50-C9B9-42F5-8568-F9B114A97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000" y="374400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5366-A2AD-4335-A033-7F38B1297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000" y="1510920"/>
            <a:ext cx="42685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640" y="3744000"/>
            <a:ext cx="874728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7E53-54A7-4EB5-AB67-8FEE7BA73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5640" y="179280"/>
            <a:ext cx="874728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5640" y="1510920"/>
            <a:ext cx="874728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85280" y="5759280"/>
            <a:ext cx="2266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002A9B-FB01-4DA7-BF6D-E7666A3FBC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008000"/>
            <a:ext cx="8259840" cy="13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85280" y="5900760"/>
            <a:ext cx="2266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ane@isc.org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bind10.isc.org/" TargetMode="External"/><Relationship Id="rId2" Type="http://schemas.openxmlformats.org/officeDocument/2006/relationships/hyperlink" Target="mailto:bind10-dev@lists.isc.org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bind10.isc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isc.org/bind10/sponsors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7640" y="626760"/>
            <a:ext cx="8261280" cy="22352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10 Pitch"/>
              </a:rPr>
              <a:t>bind10-std.h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457280" y="2993760"/>
            <a:ext cx="680400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ane Kerr &lt;</a:t>
            </a:r>
            <a:r>
              <a:rPr b="0" lang="en-US" sz="3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hane@isc.or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et Systems Consortium (ISC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22360" y="1440000"/>
            <a:ext cx="865800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Flexible Data Sourc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Zone files (of cours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QL (of cours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DB (Berkeley DataBase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DA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jbdn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...generic data source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5640" y="182160"/>
            <a:ext cx="87487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hen you say “SQL”, what do you mean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87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tivations for SQL are varied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ut-of-memory data sou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duced system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ster loa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gration with existing SQL syst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 provisioning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gle database for network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bought an SQL databas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aptive vs. Free SQL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872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ptive” SQ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ND “owns” the SQL data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s for efficient cac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ifies IXFR, DD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ee” SQ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ND is one user of an SQL data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users may update the data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mited caching po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icated data synchron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cursion Improvemen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our current goal, but some ideas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che persist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ared ca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ursive lookup trac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NSSEC debugging &amp; contr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5640" y="178920"/>
            <a:ext cx="874872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esentation Outlin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ckground &amp; Moti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als &amp; Fea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velopmen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656640" indent="-327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ND 10 development i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24880" indent="-27252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s://bind10.isc.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24880" indent="-27252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bind10-dev@lists.isc.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24880" indent="-27252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blic Subversion reposi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56640" indent="-327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ND 10 team coding awa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24880" indent="-27252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 ISC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24880" indent="-27252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JPRS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24880" indent="-27252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 CNNIC staf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totype authoritative server DON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2-r01 DON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2-r02 scheduled for 2010-06-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85640" y="178920"/>
            <a:ext cx="874872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esentation Outlin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ckground &amp; Moti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als &amp; Fea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85640" y="223920"/>
            <a:ext cx="874872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Verdana"/>
                <a:ea typeface="Arial Unicode MS"/>
                <a:hlinkClick r:id="rId1"/>
              </a:rPr>
              <a:t>https://bind10.isc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5640" y="178920"/>
            <a:ext cx="874872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esentation Outlin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ckground &amp; Moti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als &amp; Fea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hat is BIND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NS server softwa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horit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urs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by 80% of DNS serv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80%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om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80% of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que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ere Did BIND 9 Come From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igned to solve BIND 8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avy emphasis on secur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implementation for D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otivation for BIND 1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D 9 is almost 10 years ol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omputing world has chang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networking world has chang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NS software “marketplace” evolv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ed a new architecture for the next 10+ ye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 Projec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C sought funders for BIND 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ous sponsors provided initial fund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s://www.isc.org/bind10/spons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l sponsors forme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BIND 10 Steering Committ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icial kick-off date 2009-04-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(Rough) BIND 10 Timelin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1: Authoritative-only 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2: Recursive 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3: Fully functional 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4: Drop-in BIND 9 replac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5: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un stu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5640" y="178920"/>
            <a:ext cx="874872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esentation Outlin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5640" y="1511280"/>
            <a:ext cx="87487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ckground &amp; Moti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als &amp; Fea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5640" y="223560"/>
            <a:ext cx="874872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 Technologi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5640" y="1510920"/>
            <a:ext cx="8748720" cy="46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chitecture &amp; Desig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ll-defined APIs and libra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ll runtime contr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eatu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ilience to fail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uster suppo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14:14:03Z</dcterms:created>
  <dc:creator/>
  <dc:description/>
  <dc:language>en-US</dc:language>
  <cp:lastModifiedBy>Shane Kerr</cp:lastModifiedBy>
  <dcterms:modified xsi:type="dcterms:W3CDTF">2010-05-12T06:31:27Z</dcterms:modified>
  <cp:revision>189</cp:revision>
  <dc:subject/>
  <dc:title>isc_template_09jul_openoffc</dc:title>
</cp:coreProperties>
</file>