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25E7-3A6F-4ECB-906E-7D3B8E88D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7B24-7C0B-43B0-8F12-3ABA7ED51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62CF-4D8C-42F4-8850-886E3A068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9DE8-5434-4A7A-B1CD-4A44D3CBB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0D3D-D106-45A4-8C27-5D3B1888F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8E70-F284-4EE2-A23F-7A0A1A89F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4330-1CD2-4ABA-960B-999604BB5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7293-B8EF-435C-98F9-3B705CC4C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0D13-3887-447A-ABA8-52BD4084F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58DE-D41B-40F1-8A1E-DBA22FF71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F73F-F28F-484F-81B3-05BC60D24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1E43-DB52-470C-87CB-5F1BB35E7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5E5D05-C3A4-420B-93AE-B03F8389A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hyperlink" Target="mailto:bind10-steering@lists.isc.org" TargetMode="External"/><Relationship Id="rId4" Type="http://schemas.openxmlformats.org/officeDocument/2006/relationships/hyperlink" Target="mailto:bind10-staff@lists.isc.org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HCP Pow-Wo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t All-H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dwood City, 2009-12-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“Infrastructure”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1"/>
              </a:rPr>
              <a:t>https://bind10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 site (Wiki, Subversion, ticke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2"/>
              </a:rPr>
              <a:t>bind10-dev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agendas &amp; minutes published 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3"/>
              </a:rPr>
              <a:t>bind10-steering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10 Pitch"/>
                <a:hlinkClick r:id="rId4"/>
              </a:rPr>
              <a:t>bind10-staff@lists.isc.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Fully functional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UI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ing away from config/reload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desktop GUI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ers (Junip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actions, versions, serializab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 with us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xt step: draft of command UI spe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remy (50% RelEng, 50% tech wri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inmei, Michael, Jelte (cod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issa (50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JPRS staff (40% 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CNNIC staff (80% each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6:14:03Z</dcterms:created>
  <dc:creator/>
  <dc:description/>
  <dc:language>en-US</dc:language>
  <cp:lastModifiedBy>Shane Kerr</cp:lastModifiedBy>
  <dcterms:modified xsi:type="dcterms:W3CDTF">2009-12-12T16:51:04Z</dcterms:modified>
  <cp:revision>230</cp:revision>
  <dc:subject/>
  <dc:title>isc_template_09jul_openoffc</dc:title>
</cp:coreProperties>
</file>