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7202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7C853-7C95-43C4-BA85-941AC93A7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640" y="374400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4A1FA-F2CE-40C3-8ACF-862336D07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00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845C6-ABE7-4445-988B-6F430E2DF9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30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04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56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30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04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4457-AA6C-4F85-AF47-E58FF37FED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85640" y="1510920"/>
            <a:ext cx="87472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72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85640" y="179280"/>
            <a:ext cx="874728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5640" y="1510920"/>
            <a:ext cx="87472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72FF4-ACCB-4589-89E9-9536F2E471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6800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640" y="374400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6800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430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004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56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430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004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72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2663-7961-4616-973D-DDD2DC515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FFD13-AB33-4CD4-9D0D-C0F894BF5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0F38-54A9-4F58-A00B-CA4A4D4326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5640" y="179280"/>
            <a:ext cx="874728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2ED7A-D986-44F2-A398-F48FE88F7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CEF77-0C95-470A-94DF-7C2B77CDE4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00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F4F1F-09E6-40C5-9BB3-09DD9F0E4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BF8DD-38DA-4D70-A6D5-AFFBBBA4E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5640" y="1510920"/>
            <a:ext cx="87472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85280" y="5759280"/>
            <a:ext cx="2266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37A79D-70F9-4070-ABA9-C9181D5720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1008000"/>
            <a:ext cx="8259840" cy="13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85280" y="5900760"/>
            <a:ext cx="2266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hane@isc.org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ind10.isc.org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ind10.isc.org/" TargetMode="External"/><Relationship Id="rId2" Type="http://schemas.openxmlformats.org/officeDocument/2006/relationships/hyperlink" Target="mailto:bind10-dev@lists.isc.org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7640" y="626760"/>
            <a:ext cx="8261280" cy="22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1</a:t>
            </a:r>
            <a:r>
              <a:rPr b="1" lang="en-US" sz="3200" spc="-1" strike="noStrike" baseline="33000">
                <a:solidFill>
                  <a:srgbClr val="000000"/>
                </a:solidFill>
                <a:latin typeface="Verdana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Yea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457280" y="2993760"/>
            <a:ext cx="68040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ane Kerr &lt;</a:t>
            </a:r>
            <a:r>
              <a:rPr b="0" lang="en-US" sz="3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hane@isc.or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EPG @IETF 7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aheim, 2010-03-2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85640" y="223920"/>
            <a:ext cx="874872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...more time passe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5640" y="178920"/>
            <a:ext cx="874872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Ugly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31640" y="1800000"/>
            <a:ext cx="8748720" cy="39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engineering shortfal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process rush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full test cover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ufficient security mod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chroot/set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ACL sup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481800" y="247680"/>
            <a:ext cx="26971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Bad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ssing Fea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store update AP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FR (in &amp; ou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n-SQL data sou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optimized for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437160" y="247680"/>
            <a:ext cx="27432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Good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872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ts of DNS RFC good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34/1035, 2672 (DNAME), 3225 (DO bit), 3658 (DS), 4033/4035/4036 (DNSKEY, RRSIG, NSEC), 5155 (NSEC3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DP/UDP, IPv4/IPv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QL backe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NS library (C++, Python binding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omated build/test proce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372360" y="247680"/>
            <a:ext cx="28065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hat Next?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eases every 4-6 wee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xing both the Bad &amp; the Ug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ur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itional spons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85640" y="178920"/>
            <a:ext cx="874872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anks!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31640" y="720720"/>
            <a:ext cx="874872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Friday was BIND 10's First Releas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Verdana"/>
                <a:ea typeface="Arial Unicode MS"/>
                <a:hlinkClick r:id="rId1"/>
              </a:rPr>
              <a:t>http://bind10.isc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5640" y="178920"/>
            <a:ext cx="874872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 Phone Call...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300720" y="1346040"/>
            <a:ext cx="2843280" cy="3694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ND 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ject defin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onsors obtain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can you star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 want to if you want to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463840" y="1765440"/>
            <a:ext cx="4762440" cy="35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ponsor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19640" y="1293840"/>
            <a:ext cx="1390320" cy="685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219640" y="1440000"/>
            <a:ext cx="1270080" cy="698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55600" y="2516040"/>
            <a:ext cx="1905120" cy="723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495600" y="2697120"/>
            <a:ext cx="1905120" cy="542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4064040" y="5400720"/>
            <a:ext cx="1876320" cy="714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5759280" y="2535120"/>
            <a:ext cx="1333800" cy="70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7477200" y="2573280"/>
            <a:ext cx="1523880" cy="666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1433520" y="3735360"/>
            <a:ext cx="2166840" cy="585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4105440" y="3419640"/>
            <a:ext cx="1653840" cy="1371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6300720" y="3600360"/>
            <a:ext cx="1828800" cy="914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1"/>
          <a:stretch/>
        </p:blipFill>
        <p:spPr>
          <a:xfrm>
            <a:off x="4140360" y="4621320"/>
            <a:ext cx="1638000" cy="4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5640" y="178920"/>
            <a:ext cx="874872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 5 Year Mission^WPlan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299280" y="1440000"/>
            <a:ext cx="2879640" cy="2157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a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urs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ND 9 Compat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w Stu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5640" y="182160"/>
            <a:ext cx="87487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owing the Seeds of Opennes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31640" y="1871640"/>
            <a:ext cx="874872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c site,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bind10.isc.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er list,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bind10-dev@lists.isc.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blic Subver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blished weekly min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angine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85640" y="223920"/>
            <a:ext cx="874872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...time passe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22360" y="1440000"/>
            <a:ext cx="8658000" cy="3382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5:14:03Z</dcterms:created>
  <dc:creator/>
  <dc:description/>
  <dc:language>en-US</dc:language>
  <cp:lastModifiedBy>Shane Kerr</cp:lastModifiedBy>
  <dcterms:modified xsi:type="dcterms:W3CDTF">2010-03-21T16:18:46Z</dcterms:modified>
  <cp:revision>222</cp:revision>
  <dc:subject/>
  <dc:title>isc_template_09jul_openoffc</dc:title>
</cp:coreProperties>
</file>